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F1D7-5462-4D75-9559-C907FDF45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11D9-DCC7-46A2-BA47-61CBA7BCD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2B67-68B8-490F-8CBE-BD45FB72E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612B-BBA8-40E0-8446-14D4B2F9B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A4B5-4559-49F4-9264-7BBB8730A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442D-3DAD-4A0C-8200-7E1F14F0A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EF3F-AD63-498E-99B2-EEBDE64E1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FBEC-2620-43E4-BE4D-8CA6776D9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EDED-969E-4415-856D-C378EF6AA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AC09-0DCF-4A4E-BDF1-3AC50C38C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AD59-6D61-4DD6-B3C1-34E1D0005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6F3F-4F92-4C9B-AFBB-0294F3434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CEEE-399F-4A12-8B17-AF31A085C1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and Algebra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…Responding to Students Over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3309-4AD0-4F0D-B748-9A1F94F6A3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3276720" y="2552760"/>
            <a:ext cx="30448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otmocracy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tudent samples look for evidence of multiplicative thinking, generalizations and multiple representa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7392-0849-481E-8629-45ADE58E0E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9810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5000"/>
          </a:bodyPr>
          <a:p>
            <a:pPr marL="32508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table, discuss any changes you would make to your previously constructed success criteria now that you had the opportunity to engage in the Math Congres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525B-FEC0-47AA-8C6B-BC150247D0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4920" y="4114800"/>
            <a:ext cx="5867640" cy="1905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uccess criteria which would help you provide descriptive feedback over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53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49BC-3B75-42E1-8C11-C97C765698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16" name="Content Placeholder 2"/>
          <p:cNvSpPr/>
          <p:nvPr/>
        </p:nvSpPr>
        <p:spPr>
          <a:xfrm>
            <a:off x="1905120" y="1447920"/>
            <a:ext cx="4876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is a 3x3 grid of squares with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outside edge sh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you had a grid of 100 squares, h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ny would be sha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3429000" y="1295280"/>
            <a:ext cx="1143000" cy="990720"/>
            <a:chOff x="3429000" y="1295280"/>
            <a:chExt cx="1143000" cy="990720"/>
          </a:xfrm>
        </p:grpSpPr>
        <p:sp>
          <p:nvSpPr>
            <p:cNvPr id="118" name="Rectangle 10"/>
            <p:cNvSpPr/>
            <p:nvPr/>
          </p:nvSpPr>
          <p:spPr>
            <a:xfrm>
              <a:off x="342900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80988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191120" y="12952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3429000" y="162540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3809880" y="1625400"/>
              <a:ext cx="380880" cy="330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4191120" y="162540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342900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380988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191120" y="1955880"/>
              <a:ext cx="380880" cy="3301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209680"/>
            <a:ext cx="6019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5ca9"/>
                </a:solidFill>
                <a:latin typeface="Arial"/>
              </a:rPr>
              <a:t>Clapping Activity!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428B-FDB8-4110-A9A4-B7E9B53CED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4792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bove is a 4 dot triangle where each side has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ts.  It is made using a total of 9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next triangle is a 6 dot triangle.  It h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tal of 15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many dots would you need altogether f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00 dot triang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B019-D63D-4120-A40D-5CDC8E2354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6"/>
          <p:cNvGrpSpPr/>
          <p:nvPr/>
        </p:nvGrpSpPr>
        <p:grpSpPr>
          <a:xfrm>
            <a:off x="2514600" y="2286000"/>
            <a:ext cx="1092240" cy="1041480"/>
            <a:chOff x="2514600" y="2286000"/>
            <a:chExt cx="1092240" cy="1041480"/>
          </a:xfrm>
        </p:grpSpPr>
        <p:sp>
          <p:nvSpPr>
            <p:cNvPr id="56" name="Oval 7"/>
            <p:cNvSpPr/>
            <p:nvPr/>
          </p:nvSpPr>
          <p:spPr>
            <a:xfrm>
              <a:off x="3009960" y="22860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8"/>
            <p:cNvSpPr/>
            <p:nvPr/>
          </p:nvSpPr>
          <p:spPr>
            <a:xfrm>
              <a:off x="2806560" y="25653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9"/>
            <p:cNvSpPr/>
            <p:nvPr/>
          </p:nvSpPr>
          <p:spPr>
            <a:xfrm>
              <a:off x="26542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251460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284472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316224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344196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33274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3162240" y="25905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6"/>
          <p:cNvGrpSpPr/>
          <p:nvPr/>
        </p:nvGrpSpPr>
        <p:grpSpPr>
          <a:xfrm>
            <a:off x="3886200" y="1676520"/>
            <a:ext cx="1752120" cy="1638360"/>
            <a:chOff x="3886200" y="1676520"/>
            <a:chExt cx="1752120" cy="1638360"/>
          </a:xfrm>
        </p:grpSpPr>
        <p:sp>
          <p:nvSpPr>
            <p:cNvPr id="66" name="Oval 17"/>
            <p:cNvSpPr/>
            <p:nvPr/>
          </p:nvSpPr>
          <p:spPr>
            <a:xfrm>
              <a:off x="4736880" y="167652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4533840" y="19558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438156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42418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4076640" y="28321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388620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51814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506700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4902120" y="19810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547344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5308560" y="28069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41907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4533840" y="31370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48765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516888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209680"/>
            <a:ext cx="6019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b5ca9"/>
                </a:solidFill>
                <a:latin typeface="Arial"/>
              </a:rPr>
              <a:t>Math Congress!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335-A090-4D0A-88DD-F4778B59B2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pectations, Big Ideas,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42640" y="20570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compare your answers and discuss some of the different ways of solving thi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3E1D-D5A4-4E9F-A9A4-6C61392AC9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haring…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26665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lesson goal(s) for the Triangle Dot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A428-4D93-4668-8FFD-5E362DCF50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evelop success criteria which will be used to provide descriptive feedback over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7B15-68C0-406A-94C2-E51C4DF2D3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3886200" y="4038480"/>
            <a:ext cx="3429000" cy="1676520"/>
          </a:xfrm>
          <a:prstGeom prst="cloudCallout">
            <a:avLst>
              <a:gd name="adj1" fmla="val -93842"/>
              <a:gd name="adj2" fmla="val -71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a good answer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…Responding to Students in 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DE0-0BFC-4EC5-BF29-9800B04E40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3200400" y="3657600"/>
            <a:ext cx="3429000" cy="1676520"/>
          </a:xfrm>
          <a:prstGeom prst="cloudCallout">
            <a:avLst>
              <a:gd name="adj1" fmla="val -73842"/>
              <a:gd name="adj2" fmla="val -4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say if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Gallery Walk using 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697A-6EEC-4D34-9A63-87BF22FFF5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19T14:55:10Z</dcterms:modified>
  <cp:revision>77</cp:revision>
  <dc:subject/>
  <dc:title>&lt;Title&gt;</dc:title>
</cp:coreProperties>
</file>